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8.wmf" ContentType="image/x-wmf"/>
  <Override PartName="/ppt/media/image29.jpeg" ContentType="image/jpe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83560" cy="9294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166">
                <a:moveTo>
                  <a:pt x="4" y="0"/>
                </a:moveTo>
                <a:arcTo wR="4" hR="4" stAng="16200000" swAng="-5400000"/>
                <a:lnTo>
                  <a:pt x="0" y="29162"/>
                </a:lnTo>
                <a:arcTo wR="4" hR="4" stAng="10800000" swAng="-5400000"/>
                <a:lnTo>
                  <a:pt x="21596" y="2916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81760" cy="9296280"/>
          </a:xfrm>
          <a:custGeom>
            <a:avLst/>
            <a:gdLst>
              <a:gd name="textAreaLeft" fmla="*/ 360 w 6881760"/>
              <a:gd name="textAreaRight" fmla="*/ 6881400 w 688176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9178">
                <a:moveTo>
                  <a:pt x="5" y="0"/>
                </a:moveTo>
                <a:arcTo wR="5" hR="5" stAng="16200000" swAng="-5400000"/>
                <a:lnTo>
                  <a:pt x="0" y="29173"/>
                </a:lnTo>
                <a:arcTo wR="5" hR="5" stAng="10800000" swAng="-5400000"/>
                <a:lnTo>
                  <a:pt x="21595" y="2917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97000" y="-360"/>
            <a:ext cx="2979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17080" y="696600"/>
            <a:ext cx="4645080" cy="348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080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827920"/>
            <a:ext cx="298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97000" y="8829360"/>
            <a:ext cx="2979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2C0A8-0255-4680-BBD0-631FEBE9A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A65CE-C806-47D3-BB90-B4BA0B934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E3F2B-62CF-4079-9020-7FF7F2287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49D91-7DAC-43A2-AF41-52770F131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1DBF6-4A88-44BB-8C98-1923AAF75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610F0-5547-4F88-AAE2-C7B305F9D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44EF9-92A4-4B88-8E12-A7808C786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76956-6EDA-438A-91AE-BECB54C1A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1E2DD-FB3E-4729-A09B-F8956870A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1E485-8AE1-443B-9CDC-DD3FC85AE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223FC-28DE-488F-A46A-83BA622A9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D55C7-DEF1-41B0-B780-B24A6247C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6280B-EB77-44BF-954D-2BB06157B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E29A9-097B-48A4-BB1F-69BA8EB45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C612E-95CE-4537-93DB-535E94A16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2D2BD-E254-4C89-8657-AE7BB8B54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A8D3F-FE9C-4194-966B-0DC45CF1A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11C1D-5C27-406C-9B5D-6DC0A44FF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4B046-600C-4D87-9174-D6F5C7C5B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14083-5F14-41DA-9E95-79E8591D6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26FF5-D2FF-47F1-B1E6-109B5C173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CFC5C-CA04-489B-8BF1-53EBAD3F5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2A66B-10C6-466C-B2F0-AADF79EA8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0C3CC-B1C7-4156-AAED-B8087A6E8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077B7-53DF-429B-AF38-B84842BAD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17324-8F18-4789-A6CB-FCFFDB8BE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1147680" y="696960"/>
            <a:ext cx="458784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CB835-9AF6-410D-86A2-E5C325319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36C7D-6B52-492D-8498-DAE356F1F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97360" y="8829720"/>
            <a:ext cx="2979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7160" bIns="4716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8245D-6133-4380-9773-A62DF7BD5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2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399F-E79C-4044-990E-4868F0AADE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BB5D-361F-4427-B903-1D64DD58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52ED-6A80-4B23-AC5E-A9A59C57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A59C-3A01-4C76-8BBB-56C30D9EE0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FD98C-FF1F-43D3-A83F-29787466D3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ED891-D00B-49C0-8EDC-B154D71F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8A50E-EEAD-4AC7-BE35-846162B9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13087-CADF-443D-B49B-8C40D10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B9A9F-1087-4609-BDCD-BECB9F25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38CE0-5285-492F-8D18-D56EF30C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306AC-73FC-4093-AF41-A2DA42D5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7AFD-A196-4C98-9DBD-36A5315E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6B485-6311-49AB-86D7-FA2E3C94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E6E49-8D1C-434B-8217-09445D4A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8613E-F215-40D4-8C0E-1CA01E7E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A42F7-F22D-464A-BA66-0E41D9E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FF855-A3AB-4411-95E9-95BF68073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2C53-D0B9-4251-BD1B-44F52DC92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4450-B72A-4823-84D1-5DE375B7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27C8-D335-456A-B07E-CBE10B8B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ACE-778D-4890-892D-319551E6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AF03-6C94-43D6-8F16-4BDD73E8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DB48-32E1-4108-A2A0-F64702E7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D4D-3D65-4739-9B1A-0544EA59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ABFB-2C12-4179-ABD2-C0BEF69B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D917-7987-4957-A658-40969888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B46E-F961-4D73-81F0-22A0A906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72AA-2E71-4C23-95C2-E48D3767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3CC3-D60C-4D47-956F-DBA533F5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EDEE-2FEB-481A-B93A-E34803582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3D5B7-FB71-400F-8DBA-DDE4AA32D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11809-5D82-4C61-B7BB-C717FBC7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CE234-399C-4BA3-9204-50B50277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E03C-6E2C-43A5-8116-08DD4465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1D8A3-B2FA-40C7-9D53-AE420BD7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BC856-AE9D-4CE9-8980-BE75C846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8D984-C9BD-4510-8BF8-7503D4F4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7757A-BB73-4177-828F-F33CC630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9BF02-96D2-4DDA-B411-EC2CAAD2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07731-51CF-4942-B847-54FF3064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BA393-DA59-48AD-9C81-43DD7C68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B0CEE-AF00-4EBE-9573-D5912176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24D11-AED5-4EFA-8D0D-FE55D4BA1F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7F63-CEB2-438A-9BEB-0176C21A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3B94-F1C7-4804-B553-A097C2C4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00BD-4411-4ADD-B186-74FB68A6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4D83-8D82-4BFC-A607-D2959F68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3883-6663-428F-BC44-FE900089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7160" bIns="4716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95B12-FB83-4B73-BAF2-B860112D5C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593CA-2F9C-43C0-95FE-46B902FA3B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4760"/>
              <a:chOff x="-19080" y="203040"/>
              <a:chExt cx="9159480" cy="64476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664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7480" cy="561960"/>
              <a:chOff x="-19080" y="247680"/>
              <a:chExt cx="9177480" cy="56196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12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EAD8D-E7DE-481A-9160-27C82E8E1F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556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22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57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97F56-8112-43E9-B96E-EB7EEA087EF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828800" y="1600200"/>
            <a:ext cx="5486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xed-Signal Circuit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sign for Simple Spiking Neuron Mod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743200" y="3429000"/>
            <a:ext cx="3429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dullah H. Ozca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mshi Chat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E 6332 – Fall 20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Virgin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914400" y="6858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24160" cy="345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1148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0" y="1816200"/>
            <a:ext cx="4572000" cy="367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462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19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4114800" cy="5229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4524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81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owering Supply Voltag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19128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1143000" y="68580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results without gain booster st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6782040" cy="527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1143000" y="914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C results using gain booster stag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457200" y="137160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914400" y="1371600"/>
            <a:ext cx="4038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C (4bit) Summar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chnology:  0.6 u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vg Power:   14.2 mW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0 mW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 Power:  23.9 m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ansistors used: 36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ly Voltage: 5 V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Range: 1 V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Rate: 200 MHz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-9360" y="4952880"/>
            <a:ext cx="9153360" cy="157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648320" y="1676520"/>
          <a:ext cx="4113000" cy="2065320"/>
        </p:xfrm>
        <a:graphic>
          <a:graphicData uri="http://schemas.openxmlformats.org/drawingml/2006/table">
            <a:tbl>
              <a:tblPr/>
              <a:tblGrid>
                <a:gridCol w="855720"/>
                <a:gridCol w="896760"/>
                <a:gridCol w="1217520"/>
                <a:gridCol w="1143000"/>
              </a:tblGrid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bit AD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 bit ADC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IQ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Fat Tree Enco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 bit ADC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IQ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ROM Encoder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nolog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18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5 u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Spe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00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11 GS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wer Consump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 380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. 22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38.65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g 32.64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x 54.41 m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ansistor Cou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149480" y="1082520"/>
            <a:ext cx="205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067360" y="4371840"/>
            <a:ext cx="3162240" cy="11145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143000" y="2425680"/>
            <a:ext cx="50292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0^11 neurons, each neuron 10-10^5 synap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ses less power than your refrigerator ligh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ower matters; decreasing energy/spik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298116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816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zhikevich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imple Spiking Neuron Mod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2022480"/>
            <a:ext cx="88390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VLSI Circuit of Izhikevich’s Mode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816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26440" cy="41432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85800" y="6095880"/>
            <a:ext cx="81532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(Jayawan H. B. Wijekon, Piotr Dudek (2007)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piking and Bursting Firing Patterns of a Compact VLSI Cortical Neuron Circuit, Int. Joint   Conference on Neural Network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37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VLSI Circuit (0.35 μm</a:t>
            </a:r>
            <a:r>
              <a:rPr b="0" lang="en-US" sz="4600" spc="-1" strike="noStrike">
                <a:solidFill>
                  <a:srgbClr val="04617b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  <a:ea typeface="宋体"/>
              </a:rPr>
              <a:t>0.6 μm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8160" cy="448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38840" cy="2886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3762360" cy="2838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638360" cy="638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4"/>
          <a:stretch/>
        </p:blipFill>
        <p:spPr>
          <a:xfrm>
            <a:off x="457200" y="5943600"/>
            <a:ext cx="140976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5"/>
          <a:stretch/>
        </p:blipFill>
        <p:spPr>
          <a:xfrm>
            <a:off x="2590920" y="1600200"/>
            <a:ext cx="3333600" cy="704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6"/>
          <a:stretch/>
        </p:blipFill>
        <p:spPr>
          <a:xfrm>
            <a:off x="3352680" y="4952880"/>
            <a:ext cx="5353200" cy="847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7"/>
          <a:stretch/>
        </p:blipFill>
        <p:spPr>
          <a:xfrm>
            <a:off x="2590920" y="5867280"/>
            <a:ext cx="611496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1143000" y="11430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parator Pa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629400" cy="3429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"/>
          <p:cNvSpPr/>
          <p:nvPr/>
        </p:nvSpPr>
        <p:spPr>
          <a:xfrm>
            <a:off x="1371600" y="77796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 Resul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685800" y="685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 Resul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486560" cy="2771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7467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Neuron Circuit Summar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5638680" cy="26892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"/>
          <p:cNvSpPr/>
          <p:nvPr/>
        </p:nvSpPr>
        <p:spPr>
          <a:xfrm>
            <a:off x="1066680" y="4876920"/>
            <a:ext cx="6477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ansistors used: 12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42.1  m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9.29 mW (% 17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2438280" y="11430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S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086280" y="19432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657600" y="4800600"/>
            <a:ext cx="2286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1371600" y="1371600"/>
            <a:ext cx="320040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ADC Circui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euron Circui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Conclus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-9360" y="2743200"/>
            <a:ext cx="9153360" cy="15717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533520" y="533520"/>
            <a:ext cx="76960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Q Base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 TO DIGITAL CONVERTE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457200" y="685800"/>
            <a:ext cx="8659800" cy="923760"/>
            <a:chOff x="457200" y="685800"/>
            <a:chExt cx="8659800" cy="923760"/>
          </a:xfrm>
        </p:grpSpPr>
        <p:pic>
          <p:nvPicPr>
            <p:cNvPr id="216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685800"/>
              <a:ext cx="865980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3"/>
            <p:cNvSpPr/>
            <p:nvPr/>
          </p:nvSpPr>
          <p:spPr>
            <a:xfrm>
              <a:off x="457200" y="685800"/>
              <a:ext cx="865980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3486240" cy="80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216216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4"/>
          <a:stretch/>
        </p:blipFill>
        <p:spPr>
          <a:xfrm>
            <a:off x="4122720" y="1954080"/>
            <a:ext cx="433548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210200" cy="4343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152280" y="609480"/>
            <a:ext cx="762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rato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64824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48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ain Booste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400640" cy="42195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533520" y="5983200"/>
            <a:ext cx="449568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92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Transitions in the output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nstantia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voltage sw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18478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380880" y="533520"/>
            <a:ext cx="4038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OR St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876320" y="1371600"/>
            <a:ext cx="4524480" cy="45147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066680" y="5867280"/>
            <a:ext cx="5410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- Converts TC Code to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1 out of N cod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609480" y="533520"/>
            <a:ext cx="746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48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coder  Stage (Fat Tree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33440" y="1314360"/>
            <a:ext cx="6210360" cy="2800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2971800" y="4572000"/>
            <a:ext cx="31240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02:35Z</dcterms:created>
  <dc:creator>vamshichatla</dc:creator>
  <dc:description/>
  <dc:language>en-US</dc:language>
  <cp:lastModifiedBy>vamshichatla</cp:lastModifiedBy>
  <dcterms:modified xsi:type="dcterms:W3CDTF">2009-12-03T16:44:59Z</dcterms:modified>
  <cp:revision>28</cp:revision>
  <dc:subject/>
  <dc:title>Slide 1</dc:title>
</cp:coreProperties>
</file>